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1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DC669-D2C0-4D75-BF9B-906CE0E818F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8D976-AE86-4C3E-9545-D8A62D9CBEF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ECC59-F72F-4E77-B539-644EE180521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4ABAB-AE63-43F4-B374-FCDCF7CEF4D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F31AD-FD80-4C28-B1B5-85715DA71F2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2F52A-C6CE-4180-B4EF-19C043AD4BA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42762-D67C-43E6-9D0C-5E33F299769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F84D0-AA6A-4006-AE64-7D3818C8814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00849-D51E-4546-894C-F6D3E762EB0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D11E2-ADB5-4BB1-9073-7C707104207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7920" y="4716000"/>
            <a:ext cx="49816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C0A8E-0DD8-4A65-B12A-2A180CA0F49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EDB28-634E-4B81-B069-0A9CE9D7C40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BD842-1B6D-45B8-995C-40BD9382553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EF56C-C78F-453A-AB98-55B6CDD9CD1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EC949-8E43-4B50-93A4-572D5DFB1E4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B5414-4A42-4B32-B2FC-0FBAC9B2EE5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48FCF-F398-452E-9CD1-FAC7445E8CC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FE1F0-D90E-4B08-8FD9-F68A732C7BB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00D95-2C98-45ED-92FB-90CEFE9126F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A3F03-824D-4F4D-BD56-F537A4206B7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44E96-EEDD-447A-969C-2CB25F2A71F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0C73D-51D9-4FE8-BCD9-7FFACC30E91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F7DFE-75DF-4658-9A81-48BAFD40E91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52720" y="11160"/>
            <a:ext cx="2946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1440" y="11160"/>
            <a:ext cx="2946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52720" y="468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-1440" y="468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27240" y="1058760"/>
            <a:ext cx="4413240" cy="33116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20480" y="5241960"/>
            <a:ext cx="59324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28216-5B63-48F9-9A56-EBB48118326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E817B-37C1-4DE1-9249-77B5EF828C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7A9B5-AC98-4D70-968B-B330533035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48429-515E-4B74-A331-A550BD3301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A9CCB-C4D2-4815-A02B-FA08A19BE0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3F764-1D0E-40EA-9DC2-39555A9D59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7AACA-B2E4-42C5-83EC-56BB64B445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B942D-808E-4245-B596-D8623D6A6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B940F-9EAD-4696-85E6-76EA2350A4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2627B-74A5-49EE-B55E-216B98B631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604D4-C4EE-442C-8366-378A454F73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FF7AF-BCDD-4548-8685-F5F2AB33CA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46B83-F9B9-44D1-B939-969B4C6726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9FD625-300A-4665-A747-187CD49DC6B8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412640"/>
            <a:ext cx="7921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kl wykładów</a:t>
            </a:r>
            <a:r>
              <a:rPr b="0" lang="fr-FR" sz="3400" spc="-1" strike="noStrike">
                <a:solidFill>
                  <a:srgbClr val="ffffff"/>
                </a:solidFill>
                <a:latin typeface="Arial"/>
              </a:rPr>
              <a:t>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Reforma budżetowa</a:t>
            </a:r>
            <a:br>
              <a:rPr sz="3800"/>
            </a:br>
            <a:br>
              <a:rPr sz="3400"/>
            </a:b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erstwo Budżetu, Rachunków Publiczn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 Służby Cywilnej - Pary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38240" y="60148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Warszawa, 11 grudnia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6553080" y="654840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654840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523880" y="6491160"/>
            <a:ext cx="6629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Sfera wymiany: wolność - odpowiedzialność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1663560"/>
            <a:ext cx="273528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Zwiększona swobod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aktorów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administracj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3786120"/>
            <a:ext cx="36003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Globalizacja środków w danym programi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Rodzajowa zamienność środków z ograniczeniem do funduszu pł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woboda rozwoju kadrowego 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z limitem liczby zatrudnionych w przeliczeniu na pełne eta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08560" y="1663560"/>
            <a:ext cx="279252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Większa odpowiedzialność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Zarządzający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programam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3786120"/>
            <a:ext cx="352764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Zobowiązanie co do celów i sprawozdawczość z osiąganych wynikó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prawozdawczość wykorzystania środków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w podziale: rodzajowe i celow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Więcej informacji dotyczących wykonania budżetu: 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środki zabudżetowane i realizac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73EA9-EA41-41DA-883F-A19823296510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14360" y="836640"/>
            <a:ext cx="7247160" cy="59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990960" y="4481640"/>
            <a:ext cx="13842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a40079"/>
                </a:solidFill>
                <a:latin typeface="Arial"/>
              </a:rPr>
              <a:t>zamienność</a:t>
            </a:r>
            <a:r>
              <a:rPr b="0" lang="fr-FR" sz="1600" spc="-1" strike="noStrike">
                <a:solidFill>
                  <a:srgbClr val="a4007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238720" y="2963880"/>
            <a:ext cx="1962360" cy="1432080"/>
            <a:chOff x="5238720" y="2963880"/>
            <a:chExt cx="1962360" cy="1432080"/>
          </a:xfrm>
        </p:grpSpPr>
        <p:sp>
          <p:nvSpPr>
            <p:cNvPr id="181" name=""/>
            <p:cNvSpPr/>
            <p:nvPr/>
          </p:nvSpPr>
          <p:spPr>
            <a:xfrm>
              <a:off x="5425920" y="3681360"/>
              <a:ext cx="1775160" cy="714600"/>
            </a:xfrm>
            <a:custGeom>
              <a:avLst/>
              <a:gdLst>
                <a:gd name="textAreaLeft" fmla="*/ 310680 w 1775160"/>
                <a:gd name="textAreaRight" fmla="*/ 1287000 w 1775160"/>
                <a:gd name="textAreaTop" fmla="*/ 95760 h 714600"/>
                <a:gd name="textAreaBottom" fmla="*/ 618840 h 7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238720" y="2963880"/>
              <a:ext cx="1774800" cy="717480"/>
            </a:xfrm>
            <a:custGeom>
              <a:avLst/>
              <a:gdLst>
                <a:gd name="textAreaLeft" fmla="*/ 310320 w 1774800"/>
                <a:gd name="textAreaRight" fmla="*/ 1286640 w 1774800"/>
                <a:gd name="textAreaTop" fmla="*/ 96120 h 717480"/>
                <a:gd name="textAreaBottom" fmla="*/ 621360 h 71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106880" y="5616720"/>
            <a:ext cx="1359000" cy="358560"/>
          </a:xfrm>
          <a:prstGeom prst="rightArrow">
            <a:avLst>
              <a:gd name="adj1" fmla="val 50000"/>
              <a:gd name="adj2" fmla="val 94754"/>
            </a:avLst>
          </a:prstGeom>
          <a:solidFill>
            <a:srgbClr val="33cc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032360" y="4971960"/>
            <a:ext cx="1358640" cy="358920"/>
          </a:xfrm>
          <a:prstGeom prst="rightArrow">
            <a:avLst>
              <a:gd name="adj1" fmla="val 50000"/>
              <a:gd name="adj2" fmla="val 94634"/>
            </a:avLst>
          </a:prstGeom>
          <a:solidFill>
            <a:srgbClr val="33cc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655800" y="3179880"/>
            <a:ext cx="903600" cy="787320"/>
            <a:chOff x="3655800" y="3179880"/>
            <a:chExt cx="903600" cy="787320"/>
          </a:xfrm>
        </p:grpSpPr>
        <p:sp>
          <p:nvSpPr>
            <p:cNvPr id="186" name=""/>
            <p:cNvSpPr/>
            <p:nvPr/>
          </p:nvSpPr>
          <p:spPr>
            <a:xfrm>
              <a:off x="3741840" y="3575160"/>
              <a:ext cx="817560" cy="392040"/>
            </a:xfrm>
            <a:custGeom>
              <a:avLst/>
              <a:gdLst>
                <a:gd name="textAreaLeft" fmla="*/ 142920 w 817560"/>
                <a:gd name="textAreaRight" fmla="*/ 592920 w 817560"/>
                <a:gd name="textAreaTop" fmla="*/ 52560 h 392040"/>
                <a:gd name="textAreaBottom" fmla="*/ 33948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655440" y="3179880"/>
              <a:ext cx="817560" cy="393480"/>
            </a:xfrm>
            <a:custGeom>
              <a:avLst/>
              <a:gdLst>
                <a:gd name="textAreaLeft" fmla="*/ 142560 w 817560"/>
                <a:gd name="textAreaRight" fmla="*/ 592560 w 817560"/>
                <a:gd name="textAreaTop" fmla="*/ 52560 h 393480"/>
                <a:gd name="textAreaBottom" fmla="*/ 340920 h 39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560840" y="4900680"/>
            <a:ext cx="527040" cy="4302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59040" y="4900680"/>
            <a:ext cx="455400" cy="4302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927920" cy="60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Zamienność w łonie progamu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CD56C-6575-4828-A175-3ECC32F54F24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Budżet ukierunkowany wynikowo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dążenie do 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YDAJNOŚC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 określane w ramach zabudżetowanych środ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≠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budżetowanie cel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Cele dot. poprawy skuteczności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Zobowiązania wynik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czny plan wydajności</a:t>
            </a:r>
            <a:r>
              <a:rPr b="0" i="1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(LFI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prawozdawcz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czne sprawozdanie nt. wydajności</a:t>
            </a:r>
            <a:r>
              <a:rPr b="0" i="1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(LR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Ta sama prezent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truktura co rocznego planu wydajnośc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celem ułatwienia porówn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ognoza/realizacj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zyjęcie w pierwszym czytaniu usta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zlicze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n-1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zed zbadani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PLF n+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66031-0D2F-45F5-973A-31C7CE3355AA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ens wydajnośc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8064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etodologiczny przewodnik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 użytek rządu, parlamentu, najwyższego organu kontroli 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CI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bór celów i wskaźników reprezentatywny dla priorytetów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trateg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jaśniania spó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możliwiające zaspokojenie oczekiwać obywatel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żytkownika i podatnik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bór polityczn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łużące do pomiaru realizacji przyjętych cel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 i 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jaśniają polityki i są przedstawiane parlamentowi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P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ozdanie zaś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ą wykorzystywane i przenoszone na szczebel zarządzania wewnętrznego, nadają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ens działalności każdego pracownik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329600" y="114480"/>
            <a:ext cx="141912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93191-16AF-4E0B-8136-1E6BB3381C2B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miary wydajn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zy wymiary 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kuteczność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s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połeczno-ekonomiczn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obywatel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czekiwane skutki polityk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jakość świadczonej usług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użytkownik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ymóg jakośc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kuteczność zarządzan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podatnik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ptymalizacja środk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miaru wyników w przypadku każdego ustalonego cel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zyskiwane i oczekiwane poziomy 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 nie działalności czy środ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ające się przypisa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ierownictw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tała kontrola sprawowana przez niezależny organ publiczny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ędzyresortowy Komitet Audytów Programowych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(CIA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51F9D-5DA2-4992-BAE8-B92FEE8566D3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lotaż wydajnośc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27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5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ów na program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2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skaźniki na c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5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– 1.0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skaźników w rok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9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22240" y="2349360"/>
            <a:ext cx="7818480" cy="3458880"/>
            <a:chOff x="822240" y="2349360"/>
            <a:chExt cx="7818480" cy="3458880"/>
          </a:xfrm>
        </p:grpSpPr>
        <p:sp>
          <p:nvSpPr>
            <p:cNvPr id="201" name=""/>
            <p:cNvSpPr/>
            <p:nvPr/>
          </p:nvSpPr>
          <p:spPr>
            <a:xfrm>
              <a:off x="826920" y="498960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826920" y="3898440"/>
              <a:ext cx="7694640" cy="1116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6920" y="576756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826920" y="3042720"/>
              <a:ext cx="7694640" cy="1116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6920" y="2505240"/>
              <a:ext cx="18511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unkt </a:t>
              </a:r>
              <a:r>
                <a:rPr b="0" lang="pl-PL" sz="1800" spc="-1" strike="noStrike">
                  <a:solidFill>
                    <a:srgbClr val="ff9933"/>
                  </a:solidFill>
                  <a:latin typeface="Arial"/>
                </a:rPr>
                <a:t>widze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25680" y="2505240"/>
              <a:ext cx="14749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  </a:t>
              </a: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Oś analiz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53760" y="2349360"/>
              <a:ext cx="19735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rzykłady celó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36280" y="2349360"/>
              <a:ext cx="15073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rzykład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wskaźnikó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2240" y="3132000"/>
              <a:ext cx="109584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Obywat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22240" y="3909960"/>
              <a:ext cx="129852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Użytkow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26200" y="4989600"/>
              <a:ext cx="103176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Podat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26040" y="3102120"/>
              <a:ext cx="162468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uteczność spo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łeczno-ekonomicz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25320" y="3932280"/>
              <a:ext cx="17755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Jakość świadczonej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sług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26400" y="5024520"/>
              <a:ext cx="113076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uteczność</a:t>
              </a:r>
              <a:br>
                <a:rPr sz="1400"/>
              </a:b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54480" y="3078000"/>
              <a:ext cx="18730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większenie integracj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wodowej młod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ant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32680" y="3044880"/>
              <a:ext cx="24080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%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antów pracując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miesięcy po uzyskaniu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52320" y="3932280"/>
              <a:ext cx="19249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zyspieszenie decyzj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ądow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54480" y="5024520"/>
              <a:ext cx="18730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mniejszenie koszt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a podat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i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29080" y="3900600"/>
              <a:ext cx="21776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Średnia długość wydawa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ia opinii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średnia długość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stępowania sądowe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36640" y="4991040"/>
              <a:ext cx="220356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oszt na płatnika każde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dzaju po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94D1E-08A5-47E5-82D2-6EBF4A306A19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zejrzystość informacj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tki osob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postaci kosztu całkowitego z uwzględnieniem składek pracodawc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ał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atów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nagradzanych przez państwo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 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liczeniu na pełne etat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 »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ETP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zasadnienie pierwszego eur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środ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lementy fizyczno-finans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enie zasa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iwers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udżetow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dstawi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erator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taty i środ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eneraliz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twierdzania środków budżetowa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la każdego rodzaju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achunkow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nalizy kosztu działań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zdział funkcji wspierających i usług wielofunk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62A8C-C918-4951-B519-ACCF024E5B99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a rachunkowość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Narzędzia pomiaru sytuacji finansowej państwa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604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soka kompatybilność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a poziomie ustawy organiczn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Obok rachunkowości budżetowej w kasi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prowadzenie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achunkowości roku finansowego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względniającej prawa stwierdzo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celem zapewnienia przejrzystości sytuacji finansowej państw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bilan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s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sytuacja pozabilansow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achunki prawidłow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zetel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dając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ierny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obraz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majątku i sytuacji finansowej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móg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jakości księgow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wierzanej księgowym wyposażonym w sprzęt komputerowy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F7181-949D-452E-A83E-46370E2BBCE6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a rachunkowość trójwymiaro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90520" indent="-29052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achunkowość budżetow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piera się na księgowaniu przychod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wydatków budżet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nkaso/płat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datkowy okres księg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n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dwójne monitorow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E/C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achunkowość roku finansowego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piera się na stwierdzenie praw i zobowiązań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bliskie powiązania z regułami rachunkowości przedsiębiorst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względnia się operacje z tytułu roku finansoweg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którego się one odnosz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iezależnie od daty ich płatności lub inkas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Analiza kosztów działań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służbie zarządzającego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or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. CAC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79640" y="189000"/>
            <a:ext cx="6638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714C4-A279-4E62-95BD-9BA460CE0483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względnianie nowej księgow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finicja ram pojęci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rmy rachunkow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13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orm ustanowionych przez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Komitet ds. Norm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a podstawie stanów finansow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szt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rodków trwał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obowiązań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21 ma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ja 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2004 :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twierdzenie mocą rozporządze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dzaje nor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plan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rachunk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odzajow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PC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biór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strukcji księg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nstrukcja bilans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wentaryzacja 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ycena nieruchomośc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szt rynkow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ne środki trwał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zeczowe i zapas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a certyfik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z Naczelny Organ Kontrol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hunki za lat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-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2007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yfikowane przez Trybunał Obrachunk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3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 pot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strzeżeniam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y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 charakterze ogólnym dot. systemów informacji oraz kontroli wewnętrz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A24B2-4C4C-482A-9D62-11C5ADD9F67D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Ustawa organiczna z dnia 1 sierpnia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1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 roku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 sprawie ustaw budżetowych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( LOLF)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e Francj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7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owa konstytucja finansowa dla państw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nicjatywa parlamentarn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lityczne porozumienie ponad podziałam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Konsensus z rządem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36C9F-2FC0-4218-B94F-58F2719657F3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zrost roli parlamentu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udże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ardziej czyteln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skusja i przyjęcie wielkich polityk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skusja o środkach pierwszego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euro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trudnieniu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formacja wzbogacona celem kontroli wydatk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PAP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łączni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RA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débat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tencjalnie bogatsz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szerzenie prawa do popraw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enoszenie między programami w ramach tego samego zada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rakc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kon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ony dostęp do informacji dl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misji ds. finans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kty normatyw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one uprawnienia śledcze i d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zesłuchiw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sparcie ze strony Trybunału Obrachunkoweg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znacz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wy rozliczeniowej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względniającej rachunki oraz roczne sprawozdania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918D9-19FC-4554-9862-F1EA8CFE5250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295280" y="1600200"/>
            <a:ext cx="3581640" cy="4952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5162400"/>
            <a:ext cx="335268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94%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środków przenoszonych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awie automatycznie z roku na rok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ziały  głosowan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z kwestionowania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sadnicza część debaty dotyczy jedyn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6%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udżetu ogólnego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5024520"/>
            <a:ext cx="327672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środków przedmiotem dyskusj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arlamentarnej z uwzględnieniem poszczególnych zada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1600200"/>
            <a:ext cx="35812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Od budżetu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667480" y="2577960"/>
            <a:ext cx="2333520" cy="23241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776240" y="2575080"/>
            <a:ext cx="2419560" cy="23778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733400" y="2819520"/>
            <a:ext cx="533520" cy="228600"/>
          </a:xfrm>
          <a:custGeom>
            <a:avLst/>
            <a:gdLst/>
            <a:ahLst/>
            <a:rect l="l" t="t" r="r" b="b"/>
            <a:pathLst>
              <a:path w="288" h="96">
                <a:moveTo>
                  <a:pt x="192" y="48"/>
                </a:moveTo>
                <a:lnTo>
                  <a:pt x="288" y="0"/>
                </a:lnTo>
                <a:lnTo>
                  <a:pt x="0" y="0"/>
                </a:lnTo>
                <a:lnTo>
                  <a:pt x="0" y="96"/>
                </a:lnTo>
                <a:lnTo>
                  <a:pt x="192" y="96"/>
                </a:lnTo>
                <a:lnTo>
                  <a:pt x="288" y="0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81480" y="2581200"/>
            <a:ext cx="1353960" cy="28584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0"/>
                </a:moveTo>
                <a:lnTo>
                  <a:pt x="48" y="96"/>
                </a:lnTo>
                <a:lnTo>
                  <a:pt x="336" y="96"/>
                </a:lnTo>
                <a:lnTo>
                  <a:pt x="432" y="192"/>
                </a:lnTo>
                <a:lnTo>
                  <a:pt x="912" y="192"/>
                </a:lnTo>
                <a:lnTo>
                  <a:pt x="912" y="0"/>
                </a:lnTo>
                <a:lnTo>
                  <a:pt x="0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2057400"/>
            <a:ext cx="16002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we środk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9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łosowań w rok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2347920"/>
            <a:ext cx="1219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ziały głosowa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: 1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losow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15200" y="2438280"/>
            <a:ext cx="76212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0" y="96"/>
                </a:moveTo>
                <a:lnTo>
                  <a:pt x="336" y="288"/>
                </a:lnTo>
                <a:lnTo>
                  <a:pt x="480" y="288"/>
                </a:lnTo>
                <a:lnTo>
                  <a:pt x="480" y="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96080" y="2517840"/>
            <a:ext cx="10670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adań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łosow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1280" y="301320"/>
            <a:ext cx="8353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zmocniona i unowocześniona debata budżetow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2980B-45C8-4F98-8BED-B4FF8A0BE960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y system odpowiedzialn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ilotaż kierownika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 uzgodnieniach przeprowadzanych przez dyrektora ds. finans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ysponowanie środkami i rozdzielanie ich na potrzeby zarządzania wewnętrzneg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obowiązanie wydajności podejmowane wobec Parlament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y plan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jności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daje sprawę Parlamentow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y plan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ierownicy programu mogą pilotować kilka dyrekcj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dpowiedzial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enedżersk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nagradzanie zasłu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C2720-769D-4360-A98E-B51471AB25BC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ekoncentracja zarządzania budże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gramy krajowe przekładają się na</a:t>
            </a: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bud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ż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et 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peracyjny programu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 (BOP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any obszar lub teren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lan działania z celami i wskaźnikami wydajności dostosowanymi do wyzwań operacyjnych zdekoncentrowanych działów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eliminarz budżet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ściślający cele i rodzaje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chemat organizacji finansow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rządz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ierownik operacyjnego budżetu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ysponent operacyjnego budżetu programu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budżetowanie środków i sprawozdanie kierownikowi programu w ramach dialogu zarządczego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CA2FA-5CCA-4EC7-B5C2-60555A5CB6C5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ozluźnienie kontroli ministerstwa finansó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ontrola budżetowa wykon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kret z d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7/01/05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zygnacja z kontroli prawidłow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wierzona zarządco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stępne wizowanie początkowego planu budżetow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rakcie zarządz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odularność kontroli z kontrol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 priori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zależności od wyzwań i zagrożeń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wartalne sprawozdania zarządcze składane przez zarządzających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zluźniona kontrola księgowa wydat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hierarchizowana lub partnersk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le wzmocnion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ewnętrzna kontrola księg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warantując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jakość księgow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334EA-3E1C-421A-B29E-0356CCA33F9A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ealizacja kontroli należy do ministerstw zarządzającyc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ozwó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kontroli zarządzani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«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prawić stosunek środków zabudżetowanych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 działalności albo uzyskanych wyników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ialna i programowa kontrola zarządza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jak też  na szczeblu lokalnym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zmocnieni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kontroli wewnętrzn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sekwencja reorganizacji ministerst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raz złagodzenie kontroli finansowych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stanowienie wewnętrznej kontroli księgowej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ozwó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audytu wewnętrznego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ziałalność wewnętrzna prowadzona przez dedykowane zespoł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inspekcj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759E1-AC07-4D48-A56F-F66C1FECA314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Ustanowienie nowych systemów informacyjnych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System prowizoryczny od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ale mało zadowalając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owe zintegrowane oprogramowanie zarządcz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ERP)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budow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CHORUS)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bejmując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ałość centralnej i zdekoncentrowanej administracj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szystkie cele wydatkow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chody oraz każdy rodzaj księgowośc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focentra danych umożliwiające zwrot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źwignia modernizacji i poprawy produktywności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oprzedzona przez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einżynierię procesów finansow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» (23.0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icencje zamiast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45.000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ostępujący rozwó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rzewidziany w okres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9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-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11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będne wsparcie rozwoju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ABA8F-8937-439B-9154-A760A800A663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Konkludując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długotrwałość reformy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600"/>
            </a:b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Główne etapy reformy budżetowej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2001-2007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2421000"/>
            <a:ext cx="8351640" cy="1440"/>
          </a:xfrm>
          <a:prstGeom prst="line">
            <a:avLst/>
          </a:prstGeom>
          <a:ln cap="sq" w="76320">
            <a:solidFill>
              <a:srgbClr val="00ad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656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0328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86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10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00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916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93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831708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027080" y="2490480"/>
            <a:ext cx="180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9440" y="3141720"/>
            <a:ext cx="131292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łosow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arlamenc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78200" y="3149640"/>
            <a:ext cx="18730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tworzenie Dyrekcji ds. Reformy Budżetow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141720"/>
            <a:ext cx="1800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projekt ustawy budżetowej w tryb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ele wydajnośc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/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skaźniki programo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80000" y="3135240"/>
            <a:ext cx="19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ort Lambert/Migaud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sprawie wdrożenia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 :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ustawa budżetowa w tryb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 &amp;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ebata parlamenta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451640" y="3135240"/>
            <a:ext cx="1692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roczne sprawozdania wydajnoś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ertyfikacja rachunków przez Trybunał Obrachunkow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5963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37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00000" y="5589720"/>
            <a:ext cx="26672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budowanie podwa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73400" y="5589720"/>
            <a:ext cx="1722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2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r>
              <a:rPr b="0" lang="fr-FR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efigurac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59640" y="5589720"/>
            <a:ext cx="1890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3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r>
              <a:rPr b="0" lang="fr-FR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drożeni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01924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475452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7418160" y="41734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372360" y="2492280"/>
            <a:ext cx="252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owa agencja zarządzania systemami informacyjny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86715-06E6-421F-9806-F72D6D0017F3}" type="slidenum">
              <a:t>27</a:t>
            </a:fld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lotaż reform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ilotaż zapew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inister finansów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tworzenie dedykowanej struktur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dyrekcja ds. reformy budżetowe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yrekcja projektu utworzona na okres ograniczon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: 5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rzędników wysokiego szczebla wspieranych przez konsultantów celem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definiowania nowych reguł budżetowo-księgow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e współpracy dyrekcji ds. budżetu i rachunkowości publ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pewnienia międzyresortowego pilotażu reform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mitet dyrektorów finansowych ministe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forum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ierowników program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nimowanie lokalnych komitetów ds. reform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apa drogow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alendarz, kamienie milow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stała konsultacje z komisjami ds. finansów w </a:t>
            </a:r>
            <a:r>
              <a:rPr b="1" lang="fr-FR" sz="2200" spc="-1" strike="noStrike">
                <a:solidFill>
                  <a:srgbClr val="4d4d4d"/>
                </a:solidFill>
                <a:latin typeface="Arial"/>
              </a:rPr>
              <a:t>Parl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1" lang="fr-FR" sz="2200" spc="-1" strike="noStrike">
                <a:solidFill>
                  <a:srgbClr val="4d4d4d"/>
                </a:solidFill>
                <a:latin typeface="Arial"/>
              </a:rPr>
              <a:t>me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i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14A68-DE9D-4DBE-847D-F49D4EEBDDE2}" type="slidenum">
              <a:t>28</a:t>
            </a:fld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auki płynące z wdrażani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ieczność zaangażowania na najwyższym szczebl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wsparcie polityczn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ształcen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enedżerów publiczn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sferze kultury odpowiedzialności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ształcen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będne na szczeblu ministerstw dla wszystkich pracowników,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ależnie od ich poziom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ształcenie instruktor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rzystanie z możliwości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eksperymentowa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em przyswojenia sobie reform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omunikacj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zewnętrzna i wewnętrzna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ieczne napięc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alendarzow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44132-BD1C-489F-8EF7-28873467FA36}" type="slidenum">
              <a:t>29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LOLF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usi zaspokajać oczekiwania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…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17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radny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3933720"/>
            <a:ext cx="28065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Zwiększona czytelność budżetu i przejrzystość wykon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przeznaczanie zasobów na realizację polityk publicz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86400" y="1879560"/>
            <a:ext cx="251964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urzędników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3930480"/>
            <a:ext cx="2521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Większa swoboda i wzmożona odpowiedzialność aktorów administracji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Jasne c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31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3933720"/>
            <a:ext cx="274644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Obywatele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rozumienie wykorzystania podat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Użytkownicy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dostosowanie służb publicznych do potrz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podatnicy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wykorzystanie podat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4500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 Narrow"/>
              </a:rPr>
              <a:t>obywate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3C194-2ABF-4753-87F1-2CC54B1D14FF}" type="slidenum">
              <a:t>3</a:t>
            </a:fld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erwsze wyniki zachęcają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ran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otrzymała termin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tyczo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 ustawa budżetowa przyjęta w tryb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LOLF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6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 rachun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ertyfikowane przez Trybunał Obrachunkow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rodzin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wej formy odpowiedzi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chęcającej resorty do redefinicji cel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legując odpowiedzial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system zachęca do poprawy jak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ługi publicznej oraz lepszego wykorzystania zasobów publicznych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twarc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ów opera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inansowych i zasobów ludzki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zeczywiste wzbogac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ialogu zarządczeg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le przełożenie na poprawę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0D339-B10D-4B94-8EA7-D5CC9AAD2948}" type="slidenum">
              <a:t>30</a:t>
            </a:fld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imo trudnych początków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faza nau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standar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narzędz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kalendarz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ciąż jeszcze mały margines manewr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łaby rozwó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lagowanie środków przez instancje administracji central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…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bciążenie prac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rdziej złożone i większ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ięcej inform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cedur budżetowania wydat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awy dotyczące dyspozycyjności i dokładności niektór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arzędz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właszcza zintegrowanych systemów zarządcz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ierozstrzygnięta debata na temat podziału zysków produktyw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ało umów wieloletni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oblem stosowania reformy w okresie deficytu budżetowego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9CDF5-4741-44F5-8574-FE96C7EF1D84}" type="slidenum">
              <a:t>31</a:t>
            </a:fld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zwania długoterminow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politycz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zeczywista rola Parlament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administracyj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pójność zasięgu ważnych program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100)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az kompetencje administracji central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200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rekcj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lacje pomiędzy administracją centralną a działami zdekoncentrowanym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lacje między aktor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inister finans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sorty zarządzają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;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ierownicy programów oper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/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rekcje wspierają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chęty do osiągania wyników i poprawy zarządzania zasob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udzki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cieżka zawodo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ła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bonifikat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kulturow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zejście od kultury środków i prawidłowości do kultury wyników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technicz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sprawnić systemy informacji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a rzecz jakości i wiarygodności da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133720" y="645480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2" name=""/>
          <p:cNvGraphicFramePr/>
          <p:nvPr/>
        </p:nvGraphicFramePr>
        <p:xfrm>
          <a:off x="6858000" y="647208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647208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2514600" y="6400800"/>
            <a:ext cx="48769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F56A6-6E76-4697-BF37-A11B713849EF}" type="slidenum">
              <a:t>32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ilka reform w uroczystym tekści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menklatura budżet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dmiotem dyskus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łosowanie w sprawie wykonania ustaw budżetowych w celu prezent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owości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udżet ukierunkowany na wy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posażony w cele i 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ni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m umożliwienia lepszego zarządzania publiczn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rdziej precyzyjne i przejrzyste rachun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zujące n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hunkowości stwierdzonych praw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(«accrual»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raz analizie koszt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ające zarządzającym nowe narzędzia zarządzania wydatkam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system zarządzania budżetem i procedury budż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legialność rządowa i aktywniejsza rol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rl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ment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zezwalaniu na wydatki oraz ich kontrol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ABC6C-4C75-4F8F-830E-7C998F90E408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Nowa architektura budżetow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249720" y="2209320"/>
            <a:ext cx="5892840" cy="3179520"/>
            <a:chOff x="3249720" y="2209320"/>
            <a:chExt cx="5892840" cy="3179520"/>
          </a:xfrm>
        </p:grpSpPr>
        <p:sp>
          <p:nvSpPr>
            <p:cNvPr id="116" name=""/>
            <p:cNvSpPr/>
            <p:nvPr/>
          </p:nvSpPr>
          <p:spPr>
            <a:xfrm>
              <a:off x="5238720" y="2209320"/>
              <a:ext cx="230652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4000" spc="-1" strike="noStrike">
                  <a:solidFill>
                    <a:srgbClr val="000000"/>
                  </a:solidFill>
                  <a:latin typeface="Arial"/>
                </a:rPr>
                <a:t>Zadani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"/>
            <p:cNvCxnSpPr/>
            <p:nvPr/>
          </p:nvCxnSpPr>
          <p:spPr>
            <a:xfrm rot="5400000">
              <a:off x="5938560" y="3431520"/>
              <a:ext cx="926640" cy="684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18" name=""/>
            <p:cNvSpPr/>
            <p:nvPr/>
          </p:nvSpPr>
          <p:spPr>
            <a:xfrm>
              <a:off x="3630600" y="388944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24640" y="3889440"/>
              <a:ext cx="15238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388944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"/>
            <p:cNvCxnSpPr>
              <a:stCxn id="116" idx="2"/>
              <a:endCxn id="118" idx="0"/>
            </p:cNvCxnSpPr>
            <p:nvPr/>
          </p:nvCxnSpPr>
          <p:spPr>
            <a:xfrm rot="5400000">
              <a:off x="4929120" y="2424600"/>
              <a:ext cx="924840" cy="200268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cxnSp>
          <p:nvCxnSpPr>
            <p:cNvPr id="122" name=""/>
            <p:cNvCxnSpPr>
              <a:stCxn id="116" idx="2"/>
              <a:endCxn id="120" idx="0"/>
            </p:cNvCxnSpPr>
            <p:nvPr/>
          </p:nvCxnSpPr>
          <p:spPr>
            <a:xfrm flipH="1" rot="16200000">
              <a:off x="6923160" y="2431800"/>
              <a:ext cx="924840" cy="198792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5396040" y="5061240"/>
              <a:ext cx="9000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9200" y="5061960"/>
              <a:ext cx="8794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Verdana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21320" y="5061240"/>
              <a:ext cx="7905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9720" y="5059800"/>
              <a:ext cx="8334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18" idx="2"/>
              <a:endCxn id="126" idx="0"/>
            </p:cNvCxnSpPr>
            <p:nvPr/>
          </p:nvCxnSpPr>
          <p:spPr>
            <a:xfrm rot="5400000">
              <a:off x="3669480" y="4335120"/>
              <a:ext cx="719640" cy="727560"/>
            </a:xfrm>
            <a:prstGeom prst="bentConnector3">
              <a:avLst>
                <a:gd name="adj1" fmla="val 50000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8" name=""/>
            <p:cNvCxnSpPr>
              <a:stCxn id="118" idx="2"/>
              <a:endCxn id="124" idx="0"/>
            </p:cNvCxnSpPr>
            <p:nvPr/>
          </p:nvCxnSpPr>
          <p:spPr>
            <a:xfrm rot="5400000">
              <a:off x="4029480" y="4608360"/>
              <a:ext cx="632520" cy="94320"/>
            </a:xfrm>
            <a:prstGeom prst="bentConnector3">
              <a:avLst>
                <a:gd name="adj1" fmla="val 50000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9" name=""/>
            <p:cNvCxnSpPr>
              <a:stCxn id="118" idx="2"/>
              <a:endCxn id="123" idx="0"/>
            </p:cNvCxnSpPr>
            <p:nvPr/>
          </p:nvCxnSpPr>
          <p:spPr>
            <a:xfrm flipH="1" rot="16200000">
              <a:off x="4757760" y="3973320"/>
              <a:ext cx="721440" cy="1453320"/>
            </a:xfrm>
            <a:prstGeom prst="bentConnector3">
              <a:avLst>
                <a:gd name="adj1" fmla="val 49975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30" name=""/>
            <p:cNvCxnSpPr>
              <a:stCxn id="118" idx="2"/>
              <a:endCxn id="125" idx="0"/>
            </p:cNvCxnSpPr>
            <p:nvPr/>
          </p:nvCxnSpPr>
          <p:spPr>
            <a:xfrm flipH="1" rot="16200000">
              <a:off x="4343400" y="4387680"/>
              <a:ext cx="721440" cy="624600"/>
            </a:xfrm>
            <a:prstGeom prst="bentConnector3">
              <a:avLst>
                <a:gd name="adj1" fmla="val 49975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</p:grpSp>
      <p:sp>
        <p:nvSpPr>
          <p:cNvPr id="131" name=""/>
          <p:cNvSpPr/>
          <p:nvPr/>
        </p:nvSpPr>
        <p:spPr>
          <a:xfrm>
            <a:off x="609480" y="3772080"/>
            <a:ext cx="2667240" cy="1828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838760"/>
            <a:ext cx="28958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Zarządz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611280" y="3735360"/>
            <a:ext cx="2666880" cy="41904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171880"/>
            <a:ext cx="266724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3200" y="2400480"/>
            <a:ext cx="258480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yskusja i głosow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 Parlame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04560" y="3733920"/>
            <a:ext cx="136548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Zezwol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ykon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04071-5DD4-4F6C-824D-0924F3D35842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isja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raz wyborów politycznyc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7316640" cy="5400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5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32 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zadania dla budżetu ogólneg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Identyfikacja spójnych polityk publiczn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 «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Zadanie to obejmuje całość programów przyczyniających się do realizacji określonej polityki publiczne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To jednomyślne głosowanie w Parlamenci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ejmuje pewien zbiór program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arlament może dokonywać przesunięcia środków pomiędzy poszczególnymi program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ramach danej misj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oże mieć charakter ministerialny i międzyresortow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8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isji międzyresort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kła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Badania naukow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»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ejmuj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6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sort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0D326-2681-4354-965B-2F7ED5ED5C66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826920" y="1928160"/>
            <a:ext cx="7858440" cy="4674960"/>
            <a:chOff x="826920" y="1928160"/>
            <a:chExt cx="7858440" cy="4674960"/>
          </a:xfrm>
        </p:grpSpPr>
        <p:sp>
          <p:nvSpPr>
            <p:cNvPr id="140" name=""/>
            <p:cNvSpPr/>
            <p:nvPr/>
          </p:nvSpPr>
          <p:spPr>
            <a:xfrm>
              <a:off x="7153200" y="203292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Szkolnictwo wyższe i badanie nauk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6920" y="1928160"/>
              <a:ext cx="6105600" cy="120996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ształcenie wyższe i badania akademic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Życie studenc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Wielodyscyplinarne badania naukowo-technologic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zarządzania ośrodkami i zasoba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kosmic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6890400" y="24944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6920" y="338256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przemysł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53200" y="3138120"/>
              <a:ext cx="1522440" cy="8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konomia, przemysł, zatrudnie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6890400" y="352188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6920" y="3995640"/>
              <a:ext cx="6105600" cy="78372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zagrożeń i zanieczyszcze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energetyk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transportu, infrastruktury i mieszkalnic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53200" y="388908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kologi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Trwały rozwój i zagospodarowa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6890400" y="435060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53200" y="501660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Obro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6920" y="501480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dualn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ywilne i wojskow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6890400" y="515736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6920" y="624564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auczanie wyższe i badania w dziedzinie rolnic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53200" y="624564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Rolnictw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890400" y="63896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62920" y="561852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Kultu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6640" y="5615280"/>
              <a:ext cx="610704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kultury i kultura nauk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6899760" y="5759640"/>
              <a:ext cx="298440" cy="74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Zadani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« 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Badanie naukowe i szkolnictwo wyższ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 »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12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rogram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/ 6 minist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rstw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5BFA5-34B2-46EE-9682-1D060D56D014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rogram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amy zatwierdzania polityk publicznych i zarządzania nim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130 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rogramów dot. budżetu ogólneg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ogram obejmuje środki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iezależnie od ich rodzaju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)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zeznaczone na wdrażanie danego działania lub spójnej grupy działań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600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dlega jednemu ministrow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Jednostka specjalności środków i definiowania celów oraz wskaźników dot. osiąganych wyników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Brak budżetowania analityczneg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maga pilotażu, który ujawnia nowe funkcje menedżerskie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04840"/>
            <a:ext cx="701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55520" y="204840"/>
            <a:ext cx="765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ED73B-65C1-4831-AE47-2AA2A4629E9D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2967120"/>
            <a:ext cx="3657600" cy="53496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dministracja penitencja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19640" y="5445000"/>
            <a:ext cx="3619440" cy="66384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rowadzenie i pilotaż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olityki w dziedzinie wymia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sprawiedliwości ora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rganów pokrew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349360"/>
            <a:ext cx="3657600" cy="45720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Sądownictwo powszech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3662280"/>
            <a:ext cx="3657600" cy="7444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chrona sądowa młodzież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4567320"/>
            <a:ext cx="3657600" cy="3826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Dostępność prawa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wymiaru sprawiedliw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Globalizacja środków</a:t>
            </a:r>
            <a:br>
              <a:rPr sz="3000"/>
            </a:b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zykład zadania</a:t>
            </a:r>
            <a:r>
              <a:rPr b="1" lang="fr-FR" sz="27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wymiar sprawiedliwości</a:t>
            </a:r>
            <a:r>
              <a:rPr b="1" lang="fr-FR" sz="27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2200" y="1484280"/>
            <a:ext cx="4267080" cy="4897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Przedtem</a:t>
            </a:r>
            <a:r>
              <a:rPr b="1" lang="fr-FR" sz="1600" spc="-1" strike="noStrike">
                <a:solidFill>
                  <a:srgbClr val="a50021"/>
                </a:solidFill>
                <a:latin typeface="Arial"/>
              </a:rPr>
              <a:t> : 30 </a:t>
            </a: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rozdział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a50021"/>
                </a:solidFill>
                <a:latin typeface="Arial"/>
              </a:rPr>
              <a:t>160 </a:t>
            </a: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artykułów preliminar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III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Środki poszczególnych dział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Kadry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nagrodzenia za prac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meryc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merytury i zasił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Kadra zawodowo czynna i na emeryturz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obciążenia socjal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Sprzęt i funkcjonowanie dział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otacje bieżą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datki róż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IV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terwencje publicz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Interwencje o charakterze polityczno-administracyjny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ziałania socjal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pomoc i solidarnoś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V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westycje wykonywane przez pańs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posażenie administracji i róż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VI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tacje inwestycyjne przyznawane przez pańs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posażenie w dziedzinie kultury i w sferze społeczne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95840" y="3044880"/>
            <a:ext cx="380880" cy="1600200"/>
          </a:xfrm>
          <a:prstGeom prst="rightArrow">
            <a:avLst>
              <a:gd name="adj1" fmla="val 71824"/>
              <a:gd name="adj2" fmla="val 50833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1679400"/>
            <a:ext cx="36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Potem</a:t>
            </a:r>
            <a:r>
              <a:rPr b="1" lang="fr-FR" sz="1800" spc="-1" strike="noStrike">
                <a:solidFill>
                  <a:srgbClr val="a50021"/>
                </a:solidFill>
                <a:latin typeface="Arial"/>
              </a:rPr>
              <a:t> : 5 program</a:t>
            </a: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89D1A-C9F3-47AC-861E-4049F2FEA2C9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0:25:37Z</dcterms:created>
  <dc:creator>MINEFI</dc:creator>
  <dc:description/>
  <dc:language>en-US</dc:language>
  <cp:lastModifiedBy>KAS</cp:lastModifiedBy>
  <dcterms:modified xsi:type="dcterms:W3CDTF">2009-02-05T11:33:08Z</dcterms:modified>
  <cp:revision>176</cp:revision>
  <dc:subject/>
  <dc:title>La gestion de la réforme budgétaire </dc:title>
</cp:coreProperties>
</file>